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F82-15DE-4A13-A838-8A692EBF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88E-B830-485E-B1DC-AED9A388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AEB-A413-4AC1-8E73-39709A40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AB5-AC80-4F4C-A681-61D9A2E2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6635-BFE8-4DAE-AF46-7A044C8A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B863-A9C0-41B1-ABCD-8A815FC2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5DFF-814D-4C9B-AFF6-3630B25A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1AFC-536F-4F3A-922A-E2AEC0AB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68FA-F124-4F0C-A771-F9E20C22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F116-7175-4920-B017-25296CAA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5B1E-70E4-4E41-8D56-95287066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7E5-1792-451B-8C55-81B5F911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0940-89C2-4EF3-9A2D-64E07BF5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C0FD-A3A0-4A00-8FE0-2C81A5AF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1804-D398-4723-924D-88EBFFF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E994-6012-4140-8E7B-6F6526CF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AEAA-9147-43FC-8102-81704D8B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AF5-5201-4F7D-8164-19B33CD1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58D-DB6B-4D1F-BF24-9063503A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A62-5408-4C34-A487-41E207B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D04-2578-4241-AA0A-6DC0800B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97B-01EC-4E0F-A98F-80952F6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C23-814D-44E9-9BBB-3BFC9A87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A33-1D8D-406A-8355-474FA61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9CE4-7CE5-4E62-9598-ED34D84D2E3E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8702-2270-433B-9B42-B0DA457DCA68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onterusgemeinde.ro/ro/biserica-neagr259/orgi/" TargetMode="External"/><Relationship Id="rId2" Type="http://schemas.openxmlformats.org/officeDocument/2006/relationships/hyperlink" Target="http://tvdigg.net/video/DHI1ld0d-do/Instrumente-Muzicale-Musical-Instruments.html" TargetMode="External"/><Relationship Id="rId3" Type="http://schemas.openxmlformats.org/officeDocument/2006/relationships/hyperlink" Target="http://romanian.cri.cn/321/2010/09/30/1s111531.htm" TargetMode="External"/><Relationship Id="rId4" Type="http://schemas.openxmlformats.org/officeDocument/2006/relationships/hyperlink" Target="http://www.reparatii-instrumente.ro/index.php?link=flau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b7"/>
                </a:solidFill>
                <a:latin typeface="Arial Black"/>
              </a:rPr>
              <a:t>Tuburi sonor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94_01"/>
          <p:cNvPicPr/>
          <p:nvPr/>
        </p:nvPicPr>
        <p:blipFill>
          <a:blip r:embed="rId1"/>
          <a:stretch/>
        </p:blipFill>
        <p:spPr>
          <a:xfrm>
            <a:off x="2514600" y="1828800"/>
            <a:ext cx="4265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Unda sonor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da sonoră este o undă longitudinal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entru a fi perceput de urechea umană, frecvenţa sunetului trebuie să fie cuprinsă între 20 Hz şi 20000H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cazul tuburilor sonore, în dreptul sursei se formează întotdeauna un ventru (amplitudinea de oscilaţie a moleculelor de aer este maxim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Aplicaţii ale tuburilor sonore în muzic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Org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N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Fla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Clari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Trompet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845080" cy="21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1438560" cy="176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b_und_c__-_trompete"/>
          <p:cNvPicPr/>
          <p:nvPr/>
        </p:nvPicPr>
        <p:blipFill>
          <a:blip r:embed="rId3"/>
          <a:stretch/>
        </p:blipFill>
        <p:spPr>
          <a:xfrm>
            <a:off x="3733920" y="1905120"/>
            <a:ext cx="218268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iccolo_m"/>
          <p:cNvPicPr/>
          <p:nvPr/>
        </p:nvPicPr>
        <p:blipFill>
          <a:blip r:embed="rId4"/>
          <a:stretch/>
        </p:blipFill>
        <p:spPr>
          <a:xfrm>
            <a:off x="3505320" y="42670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larinet-Sizes-300x241"/>
          <p:cNvPicPr/>
          <p:nvPr/>
        </p:nvPicPr>
        <p:blipFill>
          <a:blip r:embed="rId5"/>
          <a:stretch/>
        </p:blipFill>
        <p:spPr>
          <a:xfrm>
            <a:off x="6019920" y="4191120"/>
            <a:ext cx="28573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Armonici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ub deschis: l=k</a:t>
            </a:r>
            <a:r>
              <a:rPr b="0" lang="ro-RO" sz="32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ub închis: l=k</a:t>
            </a:r>
            <a:r>
              <a:rPr b="0" lang="ro-RO" sz="32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819520" cy="249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8195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Imagini - instrumente cu tuburi son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cazul unui tub deschis de lungime l=0,5m, armonica fundamentală este f=340 H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acă tubul se închide la un capăt, frecvenţa fundamentală scade la jumătate: f=170 H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Frecvenţa emisă de un diapazon este de 440 Hz (sunet pur, fără armonic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b7"/>
                </a:solidFill>
                <a:latin typeface="Arial Black"/>
              </a:rPr>
              <a:t>Frecvenţele care corespund unor note muzical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2578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b7"/>
                </a:solidFill>
                <a:latin typeface="Arial Black"/>
              </a:rPr>
              <a:t>Mixarea instrumentelor</a:t>
            </a:r>
            <a:br>
              <a:rPr sz="3600"/>
            </a:br>
            <a:r>
              <a:rPr b="1" lang="ro-RO" sz="3600" spc="-1" strike="noStrike">
                <a:solidFill>
                  <a:srgbClr val="ffffb7"/>
                </a:solidFill>
                <a:latin typeface="Arial Black"/>
              </a:rPr>
              <a:t>Mike Oldfield – “Tubular bells”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4029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31244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Instrumentele folosite de Mike Oldfiel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1219320" cy="185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56988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13734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3657600" y="1905120"/>
            <a:ext cx="24336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82412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6"/>
          <a:stretch/>
        </p:blipFill>
        <p:spPr>
          <a:xfrm>
            <a:off x="6400800" y="19051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7"/>
          <a:stretch/>
        </p:blipFill>
        <p:spPr>
          <a:xfrm>
            <a:off x="2209680" y="4495680"/>
            <a:ext cx="1905120" cy="143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8"/>
          <a:stretch/>
        </p:blipFill>
        <p:spPr>
          <a:xfrm>
            <a:off x="4191120" y="3809880"/>
            <a:ext cx="2286000" cy="119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9"/>
          <a:stretch/>
        </p:blipFill>
        <p:spPr>
          <a:xfrm>
            <a:off x="6610320" y="3886200"/>
            <a:ext cx="253368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10"/>
          <a:stretch/>
        </p:blipFill>
        <p:spPr>
          <a:xfrm>
            <a:off x="7924680" y="1905120"/>
            <a:ext cx="9702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11"/>
          <a:stretch/>
        </p:blipFill>
        <p:spPr>
          <a:xfrm>
            <a:off x="380880" y="5334120"/>
            <a:ext cx="1676520" cy="137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12"/>
          <a:stretch/>
        </p:blipFill>
        <p:spPr>
          <a:xfrm>
            <a:off x="5181480" y="5132520"/>
            <a:ext cx="1295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Bibliograf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12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honterusgemeinde.ro/ro/biserica-neagr259/org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tvdigg.net/video/DHI1ld0d-do/Instrumente-Muzicale-Musical-Instrumen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romanian.cri.cn/321/2010/09/30/1s111531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www.reparatii-instrumente.ro/index.php?link=fla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www.carme.com.ar/index.php?c=9&amp;s=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www.radiodeea.ro/phps/stiri/dance_club_news/trompetele_fac_jocurile_si_in_minimal_undergroun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www.scritube.com/stiinta/fizica/Surse-sonore15415102111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tubular.net/discography/TubularBellsII.s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www.banaterra.eu/romana/node/15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ro.wikipedia.org/wiki/Gam%C4%83_muzical%C4%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3:16:55Z</dcterms:created>
  <dc:creator>pap</dc:creator>
  <dc:description/>
  <dc:language>en-US</dc:language>
  <cp:lastModifiedBy>Eu</cp:lastModifiedBy>
  <dcterms:modified xsi:type="dcterms:W3CDTF">2011-01-28T19:14:53Z</dcterms:modified>
  <cp:revision>8</cp:revision>
  <dc:subject/>
  <dc:title>Tuburi sonore</dc:title>
</cp:coreProperties>
</file>